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18DA-BF64-4333-A0E0-1AC5423F8F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 Warf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asters and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firstworldwar.com/features/trenchlif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bodi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ft to rot in the trenches because of the machine gun fire that kept the soldiers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asy food source for rats and a place to bre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ring 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of all nations hunted the rats– sometimes rations were short and meat was added to their di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ristmas tr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so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weapon, hard to combat.  Different gas mask styles were created by different countries. None were 100% eff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gian Uniforms and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alian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apanese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. S. ga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and Literature of 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Credit is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eeping whe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buil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lce Et Decorum 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nt double, like old beggars under sack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ck-kneed, coughing like hags, we cursed through sludg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ll on the haunting flares we turned our bac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owards our distant rest began to trudg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marched asleep. Many had lost their b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imped on, blood-shod. All went lame; all blind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unk with fatigue; deaf even to the hoo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disappointed shells that dropped behin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! Gas! Quick, boys!-- An ecstasy of fumbl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ting the clumsy helmets just in time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someone still was yelling out and stumb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loundering like a man in fire or lime.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m, through the misty panes and thick green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under a green sea, I saw him drowning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It is sweet and proper to die for your countr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Wilfred Owen, died 1918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ll my dreams, before my helpless sight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lunges at me, guttering, choking, drowning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in some smothering dreams you too could p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ind the wagon that we flung him in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atch the white eyes writhing in his fac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hanging face, like a devil's sick of si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could hear, at every jolt, the bloo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e gargling from the froth-corrupted lung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cene as cancer, bitter as the cu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le, incurable sores on innocent tongues,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friend, you would not tell with such high z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hildren ardent for some desperate glor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ld Lie: Dulce et decorum e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 patria mori. 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use H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des -- stark and glistening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ing in lurid glee. Grinning fac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raging lim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rl over the floor one fi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shirt verminously bus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n soldier tore from his throat, with oath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head might shrink at, but not the lic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oon the shirt was afla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the candle he'd lit while we l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all sprang up and strip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unt the verminous broo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on like a demons' pantomi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was ragin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 louse looks like if it were large enough to s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silhouettes agape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glibbering shadow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with the battled arms on the wal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gargantuan hooked fing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ck in supreme fles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mutch supreme littlenes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the merry limbs in hot Highland fl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some wizard verm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med from the quiet this reve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our ears were half lull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dark mus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wn from Sleep's trump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Rosenber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McCrae, died 19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 the poppies bl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crosses, row on 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mark our place; and in the sk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ks, still bravely singing, f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arce heard amid the guns below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the Dead. Short days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d, felt dawn, saw sunset glow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ved and were loved, and now we l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up our quarrel with the fo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you from failing hands we th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orch; be yours to hold it hig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e break faith with us who di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hall not sleep, though poppies gro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landers field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resources on page 986 of the text.  Possible extra credit test s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poem as if you were a soldier or a medic during World War I, living and working in the trenches.  It must be at least 12 lines and actually be dec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ways to build from a French hand b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diers fought from with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usually tight quar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es were used by both the Allies and the Central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erial photograph of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line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l trenches were de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nations fough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an eas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angers of Trench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nch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having wet feet most of the time and nowhere to dry them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04E-BE4B-4871-98A7-6CC95350B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F0A-BB05-46E2-8E5C-059F0BF1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379-10FD-45C1-8838-E1191ABD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284-6EE9-4676-9174-CA86FA0D1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FEFAD-D701-4EFF-BB74-9A12D669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5B74-351B-4259-86F6-D63A58CD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B78D-B8CB-469D-9871-BBD1B74C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FEB4-FEC7-4CF7-BFBA-6B354694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DA8F-0531-4CC7-BD61-A6BB19CF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F08F-7A4F-4169-9388-E541F873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03EE-E1B9-491C-A53E-22E26B42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0CF-F045-4A38-9AB4-BA5310C8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16E5-EA46-49C3-AEB8-F880EFF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4CFB-2B13-434E-B607-B5F6DCC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7E9C-1E42-49A8-A3A7-234B2340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9137F-758B-4E3E-8D25-56F15777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E0A6-AA4E-46DE-B85A-2A4F7746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64B25-0119-4D5C-BE95-AE92790E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B84DA-F918-4AEB-B1C8-9D12B3E0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75529-8FF9-45E0-A551-7CC8C002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7A19E-AC1E-4A2A-9731-ED03AA8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5F0B-DAB4-45B6-9C4F-C39EDC4A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610-2628-43E6-8F76-0150A85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BE16A-50FD-40DF-961A-3C219FB7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72774-6898-43B3-B73B-75F5F55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F118-47F1-4E3D-835C-AF88EB7A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75AA-76FF-4F9E-84D3-33519DF6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ADF9-3E1B-4804-8213-A759A4CCE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9FC0-0E8D-45EA-A23D-4B2C376FE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F335-F408-4C85-80AE-8CD4DD6A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97BD-81CA-4AF0-B324-E76968E9A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4FCD4-09E5-41C4-A223-35D50A69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68D63-AD96-4240-9ED0-058799D9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8D7-8842-48A0-A35E-EAD8CBE9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AEED-3469-4896-BA41-9666E254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CEFB-34BB-47FE-9964-2FF31179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A7DE1-CA98-441E-8A8F-6310294F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C96EE-B699-4F4F-8AAF-041104D8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A0316-234B-4495-B969-1BABFBEE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F306-E404-4D68-97D0-186E74AA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55EEB-FA32-47D3-ABDC-DD7DC883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CB0B-A45A-40B0-A14B-41A074D5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C9F7-A172-49BA-AED7-32EA3656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0010A-0A4F-466D-8FDA-87929FAB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3DB-18A6-4F78-B035-69715A16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762E6-3082-4774-9A67-9B3F1904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87C24-F3A4-4E61-B5B7-78310B1B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C08AE-C4DC-46DD-90DF-973B995D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35AFA-E6A5-4B1B-A284-F86EFC6D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FC7B-57AB-4483-B802-EE7622C7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A78BE-454F-4A69-A1E3-EF8D15C9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F04E5-B4B5-40EE-B09E-4C0EC9B2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688F9-F916-4E84-8226-78A493F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0E90D-A27A-4067-A31F-6D63F0CD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E4B2-4456-4B2C-8291-384B0282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CD6E-35AE-448C-AC23-BD43DB35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C833F-ED6F-415A-B0A4-288992ECC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CD95-4F9C-450C-8881-EE5252F9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A37-DD6A-4505-BA57-CA630FD2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FFD1-B981-4CF0-ADF6-0BF1083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B8E5-CD36-4D0A-80B6-3AF635C682F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7752-84C4-48C1-A54F-1CD45C1764F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CDDB-F29A-458F-85FF-1EE60F165E61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0759-61FD-4FFC-9237-AC36CAD982AF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CB09-E93C-4002-B43D-3B37B79E0453}" type="slidenum">
              <a:rPr b="0" lang="en-US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rench Warf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Disasters and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685800" y="5562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firstworldwar.com/features/trenchlife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ead bodies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028840"/>
            <a:ext cx="3932280" cy="152388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eft to rot in the trenches because of the machine gun fire that kept the soldiers 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7840" y="4998960"/>
            <a:ext cx="3932280" cy="132552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easy food source for rats and a place to breed disea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Content Placeholder 6" descr="untitleddead.bmp"/>
          <p:cNvPicPr/>
          <p:nvPr/>
        </p:nvPicPr>
        <p:blipFill>
          <a:blip r:embed="rId1"/>
          <a:stretch/>
        </p:blipFill>
        <p:spPr>
          <a:xfrm>
            <a:off x="1100160" y="1447920"/>
            <a:ext cx="2946240" cy="3489120"/>
          </a:xfrm>
          <a:prstGeom prst="rect">
            <a:avLst/>
          </a:prstGeom>
          <a:ln w="0">
            <a:noFill/>
          </a:ln>
        </p:spPr>
      </p:pic>
      <p:pic>
        <p:nvPicPr>
          <p:cNvPr id="282" name="Content Placeholder 7" descr="15618_f260.jpg"/>
          <p:cNvPicPr/>
          <p:nvPr/>
        </p:nvPicPr>
        <p:blipFill>
          <a:blip r:embed="rId2"/>
          <a:stretch/>
        </p:blipFill>
        <p:spPr>
          <a:xfrm>
            <a:off x="4334040" y="1752480"/>
            <a:ext cx="4330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Bring r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Content Placeholder 6" descr="10-german-slodiers-after-rat-hunting-gw000.jpg"/>
          <p:cNvPicPr/>
          <p:nvPr/>
        </p:nvPicPr>
        <p:blipFill>
          <a:blip r:embed="rId1"/>
          <a:stretch/>
        </p:blipFill>
        <p:spPr>
          <a:xfrm>
            <a:off x="1523880" y="685800"/>
            <a:ext cx="7083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038120" y="4647960"/>
            <a:ext cx="3932280" cy="190476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of all nations hunted the rats– sometimes rations were short and meat was added to their di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Content Placeholder 6" descr="0906rats.jpg"/>
          <p:cNvPicPr/>
          <p:nvPr/>
        </p:nvPicPr>
        <p:blipFill>
          <a:blip r:embed="rId1"/>
          <a:stretch/>
        </p:blipFill>
        <p:spPr>
          <a:xfrm>
            <a:off x="304920" y="380880"/>
            <a:ext cx="2776320" cy="3729240"/>
          </a:xfrm>
          <a:prstGeom prst="rect">
            <a:avLst/>
          </a:prstGeom>
          <a:ln w="0">
            <a:noFill/>
          </a:ln>
        </p:spPr>
      </p:pic>
      <p:pic>
        <p:nvPicPr>
          <p:cNvPr id="290" name="Content Placeholder 7" descr="Images%20-%20Rats%20001.jpg"/>
          <p:cNvPicPr/>
          <p:nvPr/>
        </p:nvPicPr>
        <p:blipFill>
          <a:blip r:embed="rId2"/>
          <a:stretch/>
        </p:blipFill>
        <p:spPr>
          <a:xfrm>
            <a:off x="3124080" y="304920"/>
            <a:ext cx="5843880" cy="44193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Je%20Sais%20Tout%20-%20Rats%20005.jpg"/>
          <p:cNvPicPr/>
          <p:nvPr/>
        </p:nvPicPr>
        <p:blipFill>
          <a:blip r:embed="rId3"/>
          <a:stretch/>
        </p:blipFill>
        <p:spPr>
          <a:xfrm>
            <a:off x="1219320" y="3398760"/>
            <a:ext cx="25905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hristmas truc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93" name="Content Placeholder 3" descr="christmas-truce-1.jpg"/>
          <p:cNvPicPr/>
          <p:nvPr/>
        </p:nvPicPr>
        <p:blipFill>
          <a:blip r:embed="rId1"/>
          <a:stretch/>
        </p:blipFill>
        <p:spPr>
          <a:xfrm>
            <a:off x="738360" y="272880"/>
            <a:ext cx="711036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ontent Placeholder 3" descr="trench3.jpg"/>
          <p:cNvPicPr/>
          <p:nvPr/>
        </p:nvPicPr>
        <p:blipFill>
          <a:blip r:embed="rId1"/>
          <a:stretch/>
        </p:blipFill>
        <p:spPr>
          <a:xfrm>
            <a:off x="2362320" y="304920"/>
            <a:ext cx="6541920" cy="4333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oison Ga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Text Placeholder 2"/>
          <p:cNvSpPr/>
          <p:nvPr/>
        </p:nvSpPr>
        <p:spPr>
          <a:xfrm>
            <a:off x="457200" y="46483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weapon, hard to combat.  Different gas mask styles were created by different countries. None were 100%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Belgian Uniforms and mas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stralian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0" name="Content Placeholder 6" descr="belgian-gas-masks-WWI.jpg"/>
          <p:cNvPicPr/>
          <p:nvPr/>
        </p:nvPicPr>
        <p:blipFill>
          <a:blip r:embed="rId1"/>
          <a:stretch/>
        </p:blipFill>
        <p:spPr>
          <a:xfrm>
            <a:off x="608040" y="1717560"/>
            <a:ext cx="3930480" cy="2949840"/>
          </a:xfrm>
          <a:prstGeom prst="rect">
            <a:avLst/>
          </a:prstGeom>
          <a:ln w="0">
            <a:noFill/>
          </a:ln>
        </p:spPr>
      </p:pic>
      <p:pic>
        <p:nvPicPr>
          <p:cNvPr id="301" name="Content Placeholder 7" descr="Aussie.jpg"/>
          <p:cNvPicPr/>
          <p:nvPr/>
        </p:nvPicPr>
        <p:blipFill>
          <a:blip r:embed="rId2"/>
          <a:stretch/>
        </p:blipFill>
        <p:spPr>
          <a:xfrm>
            <a:off x="5457960" y="1447920"/>
            <a:ext cx="232092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apanese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. S. gas m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Content Placeholder 6" descr="gas_maskjapanese.jpg"/>
          <p:cNvPicPr/>
          <p:nvPr/>
        </p:nvPicPr>
        <p:blipFill>
          <a:blip r:embed="rId1"/>
          <a:stretch/>
        </p:blipFill>
        <p:spPr>
          <a:xfrm>
            <a:off x="890640" y="1447920"/>
            <a:ext cx="3365280" cy="3489120"/>
          </a:xfrm>
          <a:prstGeom prst="rect">
            <a:avLst/>
          </a:prstGeom>
          <a:ln w="0">
            <a:noFill/>
          </a:ln>
        </p:spPr>
      </p:pic>
      <p:pic>
        <p:nvPicPr>
          <p:cNvPr id="306" name="Content Placeholder 7" descr="US_WWI_Gas_mask_with_bag.jpg"/>
          <p:cNvPicPr/>
          <p:nvPr/>
        </p:nvPicPr>
        <p:blipFill>
          <a:blip r:embed="rId2"/>
          <a:stretch/>
        </p:blipFill>
        <p:spPr>
          <a:xfrm>
            <a:off x="4794120" y="1447920"/>
            <a:ext cx="364824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Content Placeholder 4" descr="WWI-Gas-training.jpg"/>
          <p:cNvPicPr/>
          <p:nvPr/>
        </p:nvPicPr>
        <p:blipFill>
          <a:blip r:embed="rId1"/>
          <a:stretch/>
        </p:blipFill>
        <p:spPr>
          <a:xfrm>
            <a:off x="663480" y="712800"/>
            <a:ext cx="7718400" cy="4925880"/>
          </a:xfrm>
          <a:prstGeom prst="rect">
            <a:avLst/>
          </a:prstGeom>
          <a:ln w="0">
            <a:noFill/>
          </a:ln>
        </p:spPr>
      </p:pic>
      <p:sp>
        <p:nvSpPr>
          <p:cNvPr id="308" name="Title 1"/>
          <p:cNvSpPr/>
          <p:nvPr/>
        </p:nvSpPr>
        <p:spPr>
          <a:xfrm>
            <a:off x="762120" y="5410080"/>
            <a:ext cx="77724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Gas 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wwi_sergeant_and_his_dog_wearing_gas_masks_1915_poster-p228219550221623327tdar_210.jpg"/>
          <p:cNvPicPr/>
          <p:nvPr/>
        </p:nvPicPr>
        <p:blipFill>
          <a:blip r:embed="rId1"/>
          <a:stretch/>
        </p:blipFill>
        <p:spPr>
          <a:xfrm>
            <a:off x="228600" y="228600"/>
            <a:ext cx="3895560" cy="3895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" descr="WWI-Horses-Gasmasks.jpg"/>
          <p:cNvPicPr/>
          <p:nvPr/>
        </p:nvPicPr>
        <p:blipFill>
          <a:blip r:embed="rId2"/>
          <a:stretch/>
        </p:blipFill>
        <p:spPr>
          <a:xfrm>
            <a:off x="6324480" y="609480"/>
            <a:ext cx="2381400" cy="3467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" descr="german-messenger-dog-with-gas-protection-mask-wwi-500x367.jpg"/>
          <p:cNvPicPr/>
          <p:nvPr/>
        </p:nvPicPr>
        <p:blipFill>
          <a:blip r:embed="rId3"/>
          <a:stretch/>
        </p:blipFill>
        <p:spPr>
          <a:xfrm>
            <a:off x="2895480" y="3195720"/>
            <a:ext cx="44578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Poetry and Literature of World War I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766f"/>
                </a:solidFill>
                <a:latin typeface="Verdana"/>
              </a:rPr>
              <a:t>Extra Credit is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Sleeping whe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w to build th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Content Placeholder 6" descr="diagram.jpg"/>
          <p:cNvPicPr/>
          <p:nvPr/>
        </p:nvPicPr>
        <p:blipFill>
          <a:blip r:embed="rId1"/>
          <a:stretch/>
        </p:blipFill>
        <p:spPr>
          <a:xfrm>
            <a:off x="533520" y="1295280"/>
            <a:ext cx="801828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ulce Et Decorum Es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Text Placeholder 2"/>
          <p:cNvSpPr/>
          <p:nvPr/>
        </p:nvSpPr>
        <p:spPr>
          <a:xfrm>
            <a:off x="457200" y="685800"/>
            <a:ext cx="81532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nt double, like old beggars under sack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ck-kneed, coughing like hags, we cursed through slud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ll on the haunting flares we turned our back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towards our distant rest began to trud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 marched asleep. Many had lost their b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limped on, blood-shod. All went lame; all blind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unk with fatigue; deaf even to the hoo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disappointed shells that dropped behind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S! Gas! Quick, boys!-- An ecstasy of fumbl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tting the clumsy helmets just in time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t someone still was yelling out and stumb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floundering like a man in fire or lime.--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m, through the misty panes and thick green ligh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 under a green sea, I saw him drowning.</a:t>
            </a:r>
            <a:br>
              <a:rPr sz="2000"/>
            </a:br>
            <a:br>
              <a:rPr sz="2000"/>
            </a:br>
            <a:br>
              <a:rPr sz="7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* It is sweet and proper to die for your country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br>
              <a:rPr sz="1600"/>
            </a:b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i="1" lang="en-US" sz="1600" spc="-1" strike="noStrike">
                <a:solidFill>
                  <a:srgbClr val="ff8d3e"/>
                </a:solidFill>
                <a:latin typeface="Verdana"/>
              </a:rPr>
              <a:t> Wilfred Owen, died 1918 </a:t>
            </a:r>
            <a:br>
              <a:rPr sz="3200"/>
            </a:b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990720" y="990720"/>
            <a:ext cx="6400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ll my dreams, before my helpless sigh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 plunges at me, guttering, choking, drowning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in some smothering dreams you too could 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hind the wagon that we flung him in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watch the white eyes writhing in his fa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s hanging face, like a devil's sick of sin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ou could hear, at every jolt, the bloo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e gargling from the froth-corrupted lung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bscene as cancer, bitter as the cu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 vile, incurable sores on innocent tongues,-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 friend, you would not tell with such high z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children ardent for some desperate glory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ld Lie: Dulce et decorum es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 patria mori.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tle 1"/>
          <p:cNvSpPr/>
          <p:nvPr/>
        </p:nvSpPr>
        <p:spPr>
          <a:xfrm>
            <a:off x="228600" y="5335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Louse Hun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Placeholder 2"/>
          <p:cNvSpPr/>
          <p:nvPr/>
        </p:nvSpPr>
        <p:spPr>
          <a:xfrm>
            <a:off x="1447920" y="1295280"/>
            <a:ext cx="64767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des -- stark and glistening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elling in lurid glee. Grinning fac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raging limb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rl over the floor one fi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a shirt verminously bus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n soldier tore from his throat, with oath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head might shrink at, but not the lic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soon the shirt was afla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 the candle he'd lit while we 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we all sprang up and strip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hunt the verminous broo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on like a demons' pantomin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lace was raging.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538600" y="533520"/>
            <a:ext cx="2971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What a louse looks like if it were large enough to see.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1" name="Content Placeholder 4" descr="lice.jpg"/>
          <p:cNvPicPr/>
          <p:nvPr/>
        </p:nvPicPr>
        <p:blipFill>
          <a:blip r:embed="rId1"/>
          <a:stretch/>
        </p:blipFill>
        <p:spPr>
          <a:xfrm>
            <a:off x="762120" y="1773360"/>
            <a:ext cx="4626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"/>
          <p:cNvSpPr/>
          <p:nvPr/>
        </p:nvSpPr>
        <p:spPr>
          <a:xfrm>
            <a:off x="2057400" y="45720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silhouettes agap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glibbering shadow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d with the battled arms on the wal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gargantuan hooked fing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uck in supreme fles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mutch supreme littlenes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the merry limbs in hot Highland f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cause some wizard verm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med from the quiet this rev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our ears were half lull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the dark mus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lown from Sleep's trump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itle 1"/>
          <p:cNvSpPr/>
          <p:nvPr/>
        </p:nvSpPr>
        <p:spPr>
          <a:xfrm>
            <a:off x="533520" y="533412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400" spc="-1" strike="noStrike">
                <a:solidFill>
                  <a:srgbClr val="ff8d3e"/>
                </a:solidFill>
                <a:latin typeface="Verdana"/>
              </a:rPr>
              <a:t>Isaac Rosenber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183520" cy="6760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In Flanders Field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42048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5c00"/>
                </a:solidFill>
                <a:latin typeface="Verdana"/>
              </a:rPr>
              <a:t>John McCrae, died 1918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1232640" y="1143000"/>
            <a:ext cx="4568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 the poppies b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tween the crosses, row on 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at mark our place; and in the sk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larks, still bravely singing, f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arce heard amid the guns below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are the Dead. Short days ag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lived, felt dawn, saw sunset glow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ved and were loved, and now we 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ake up our quarrel with the fo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you from failing hands we th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orch; be yours to hold it high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f ye break faith with us who d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e shall not sleep, though poppies gr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Flanders fields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Placeholder 4" descr="thepoem_clip_image002.jpg"/>
          <p:cNvPicPr/>
          <p:nvPr/>
        </p:nvPicPr>
        <p:blipFill>
          <a:blip r:embed="rId1"/>
          <a:stretch/>
        </p:blipFill>
        <p:spPr>
          <a:xfrm>
            <a:off x="420840" y="433440"/>
            <a:ext cx="5924520" cy="43466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dsc00783.jpg"/>
          <p:cNvPicPr/>
          <p:nvPr/>
        </p:nvPicPr>
        <p:blipFill>
          <a:blip r:embed="rId2"/>
          <a:stretch/>
        </p:blipFill>
        <p:spPr>
          <a:xfrm>
            <a:off x="6019920" y="2133720"/>
            <a:ext cx="2800080" cy="3733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p161082-Bruges-Flanders_Fields.jpg"/>
          <p:cNvPicPr/>
          <p:nvPr/>
        </p:nvPicPr>
        <p:blipFill>
          <a:blip r:embed="rId3"/>
          <a:stretch/>
        </p:blipFill>
        <p:spPr>
          <a:xfrm>
            <a:off x="380880" y="35053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ounded Rectangle 4"/>
          <p:cNvSpPr/>
          <p:nvPr/>
        </p:nvSpPr>
        <p:spPr>
          <a:xfrm>
            <a:off x="304920" y="380880"/>
            <a:ext cx="8534160" cy="6096240"/>
          </a:xfrm>
          <a:prstGeom prst="roundRect">
            <a:avLst>
              <a:gd name="adj" fmla="val 16667"/>
            </a:avLst>
          </a:prstGeom>
          <a:solidFill>
            <a:srgbClr val="0d0d0d"/>
          </a:solidFill>
          <a:ln w="42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5333760"/>
            <a:ext cx="82296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766f"/>
                </a:solidFill>
                <a:latin typeface="Verdana"/>
              </a:rPr>
              <a:t>More resources on page 986 of the text.  Possible extra credit test sco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360" y="533160"/>
            <a:ext cx="7559640" cy="42116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4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rite a poem as if you were a soldier or a medic during World War I, living and working in the trenches.  It must be at least 12 lines and actually be decent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538600" y="533160"/>
            <a:ext cx="2971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07f09"/>
                </a:solidFill>
                <a:latin typeface="Verdana"/>
              </a:rPr>
              <a:t>More ways to build from a French hand book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Content Placeholder 4" descr="tren001.jpg"/>
          <p:cNvPicPr/>
          <p:nvPr/>
        </p:nvPicPr>
        <p:blipFill>
          <a:blip r:embed="rId1"/>
          <a:stretch/>
        </p:blipFill>
        <p:spPr>
          <a:xfrm>
            <a:off x="960480" y="380880"/>
            <a:ext cx="42289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ldiers fought from within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It was usually tight quar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Content Placeholder 6" descr="default.jpg"/>
          <p:cNvPicPr/>
          <p:nvPr/>
        </p:nvPicPr>
        <p:blipFill>
          <a:blip r:embed="rId1"/>
          <a:stretch/>
        </p:blipFill>
        <p:spPr>
          <a:xfrm>
            <a:off x="608040" y="2009880"/>
            <a:ext cx="3930480" cy="2365200"/>
          </a:xfrm>
          <a:prstGeom prst="rect">
            <a:avLst/>
          </a:prstGeom>
          <a:ln w="0">
            <a:noFill/>
          </a:ln>
        </p:spPr>
      </p:pic>
      <p:pic>
        <p:nvPicPr>
          <p:cNvPr id="255" name="Content Placeholder 7" descr="3.jpg"/>
          <p:cNvPicPr/>
          <p:nvPr/>
        </p:nvPicPr>
        <p:blipFill>
          <a:blip r:embed="rId2"/>
          <a:stretch/>
        </p:blipFill>
        <p:spPr>
          <a:xfrm>
            <a:off x="4653000" y="1774800"/>
            <a:ext cx="39304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Trenches were used by both the Allies and the Central Pow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 aerial photograph of the trench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rst line of defen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Content Placeholder 6" descr="tren008.jpg"/>
          <p:cNvPicPr/>
          <p:nvPr/>
        </p:nvPicPr>
        <p:blipFill>
          <a:blip r:embed="rId1"/>
          <a:stretch/>
        </p:blipFill>
        <p:spPr>
          <a:xfrm>
            <a:off x="685800" y="1447920"/>
            <a:ext cx="3794040" cy="3946320"/>
          </a:xfrm>
          <a:prstGeom prst="rect">
            <a:avLst/>
          </a:prstGeom>
          <a:ln w="0">
            <a:noFill/>
          </a:ln>
        </p:spPr>
      </p:pic>
      <p:pic>
        <p:nvPicPr>
          <p:cNvPr id="260" name="Content Placeholder 7" descr="image.jpg"/>
          <p:cNvPicPr/>
          <p:nvPr/>
        </p:nvPicPr>
        <p:blipFill>
          <a:blip r:embed="rId2"/>
          <a:stretch/>
        </p:blipFill>
        <p:spPr>
          <a:xfrm>
            <a:off x="4653000" y="1592280"/>
            <a:ext cx="393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n the trench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ot all trenches were deep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any nations fought togeth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Content Placeholder 9" descr="Trench_warfare.jpg"/>
          <p:cNvPicPr/>
          <p:nvPr/>
        </p:nvPicPr>
        <p:blipFill>
          <a:blip r:embed="rId1"/>
          <a:stretch/>
        </p:blipFill>
        <p:spPr>
          <a:xfrm>
            <a:off x="4843440" y="1447920"/>
            <a:ext cx="3170160" cy="3962160"/>
          </a:xfrm>
          <a:prstGeom prst="rect">
            <a:avLst/>
          </a:prstGeom>
          <a:ln w="0">
            <a:noFill/>
          </a:ln>
        </p:spPr>
      </p:pic>
      <p:pic>
        <p:nvPicPr>
          <p:cNvPr id="265" name="Content Placeholder 8" descr="trenches.jpg"/>
          <p:cNvPicPr/>
          <p:nvPr/>
        </p:nvPicPr>
        <p:blipFill>
          <a:blip r:embed="rId2"/>
          <a:stretch/>
        </p:blipFill>
        <p:spPr>
          <a:xfrm>
            <a:off x="457200" y="1828800"/>
            <a:ext cx="4300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Figh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times an easy targ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Content Placeholder 6" descr="untitled.bmp"/>
          <p:cNvPicPr/>
          <p:nvPr/>
        </p:nvPicPr>
        <p:blipFill>
          <a:blip r:embed="rId1"/>
          <a:stretch/>
        </p:blipFill>
        <p:spPr>
          <a:xfrm>
            <a:off x="898560" y="1447920"/>
            <a:ext cx="3349440" cy="3489120"/>
          </a:xfrm>
          <a:prstGeom prst="rect">
            <a:avLst/>
          </a:prstGeom>
          <a:ln w="0">
            <a:noFill/>
          </a:ln>
        </p:spPr>
      </p:pic>
      <p:pic>
        <p:nvPicPr>
          <p:cNvPr id="270" name="Content Placeholder 7" descr="trenchPA_468x607.jpg"/>
          <p:cNvPicPr/>
          <p:nvPr/>
        </p:nvPicPr>
        <p:blipFill>
          <a:blip r:embed="rId2"/>
          <a:stretch/>
        </p:blipFill>
        <p:spPr>
          <a:xfrm>
            <a:off x="5273640" y="1447920"/>
            <a:ext cx="26892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ngers of Trench lif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Content Placeholder 3" descr="duncan15.gif"/>
          <p:cNvPicPr/>
          <p:nvPr/>
        </p:nvPicPr>
        <p:blipFill>
          <a:blip r:embed="rId1"/>
          <a:stretch/>
        </p:blipFill>
        <p:spPr>
          <a:xfrm>
            <a:off x="728640" y="1305000"/>
            <a:ext cx="727236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Trenchfoo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8040" y="579600"/>
            <a:ext cx="3930480" cy="792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3000" y="579600"/>
            <a:ext cx="3930480" cy="163008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om having wet feet most of the time and nowhere to dry the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Content Placeholder 6" descr="waterfilledtrench.jpg"/>
          <p:cNvPicPr/>
          <p:nvPr/>
        </p:nvPicPr>
        <p:blipFill>
          <a:blip r:embed="rId1"/>
          <a:stretch/>
        </p:blipFill>
        <p:spPr>
          <a:xfrm>
            <a:off x="896760" y="593640"/>
            <a:ext cx="3353040" cy="5197680"/>
          </a:xfrm>
          <a:prstGeom prst="rect">
            <a:avLst/>
          </a:prstGeom>
          <a:ln w="0">
            <a:noFill/>
          </a:ln>
        </p:spPr>
      </p:pic>
      <p:pic>
        <p:nvPicPr>
          <p:cNvPr id="277" name="Content Placeholder 7" descr="foot.jpg"/>
          <p:cNvPicPr/>
          <p:nvPr/>
        </p:nvPicPr>
        <p:blipFill>
          <a:blip r:embed="rId2"/>
          <a:stretch/>
        </p:blipFill>
        <p:spPr>
          <a:xfrm>
            <a:off x="5486400" y="2438280"/>
            <a:ext cx="231300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7:38Z</dcterms:created>
  <dc:creator>SBHC</dc:creator>
  <dc:description/>
  <dc:language>en-US</dc:language>
  <cp:lastModifiedBy>LEGION</cp:lastModifiedBy>
  <dcterms:modified xsi:type="dcterms:W3CDTF">2017-07-03T09:58:31Z</dcterms:modified>
  <cp:revision>21</cp:revision>
  <dc:subject/>
  <dc:title>Slide 1</dc:title>
</cp:coreProperties>
</file>